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B15-A99B-4062-8D1D-54AA0BEB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F9A-7B37-43F7-9A43-645CF364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E4D-0D95-42B5-852F-AF68A932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25A-ECCC-4F69-8CF6-C63842CA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30AF-71A0-47C9-B8AE-8216E702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20B6-059F-4ED4-8A50-9C49FAF8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DFCE-55A1-43A7-BFBF-358C9D96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41A0-90B0-4B8C-B679-C8D071FD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1021-137D-42AF-90B0-FD501190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09EE-5D3A-4D04-A65E-51750FB0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39BE-C21C-407E-89E6-98BE87E4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4FD-4EBF-4AB8-B065-607B6CA0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B52D-A27F-4BCD-9E54-D2CFA453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D9D0-4CFC-43F8-A1FA-011BFF28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A0B8-2F8C-4016-964B-BBE8889E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1EB4-9503-4509-8575-A780AF29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7ABF-270D-4ED6-A0BD-4667584B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12DC-DB51-498A-8F9E-35B4B028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F4EEB-C956-4CDD-B892-D7E3380D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62397-D1FA-4C29-96C5-01C5BE2E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2E9C-7F7A-441C-9202-74DDA636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2FF08-431B-422B-ADCB-1915FF23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1C8-6179-4206-99B1-910A64FD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9A2BA-9FEB-4031-9261-24BB349C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782F-63DE-402A-B5DD-C581DC53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6603-24B8-425C-857D-DD7D0590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4A48-9927-4D7A-9D26-CF07D590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EA94-92B1-4E53-BE2F-B073460A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1B3A-18EE-4FA2-A022-90B88885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1666-BE7E-4181-A3E8-E2062017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25D-4A9C-473F-AEB3-E85D9A0A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04D-74A1-4CB7-94B3-91252D58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367-51E3-4D41-9323-E6647A36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2CF-BF59-4CF3-AFE9-91556479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7F5-B584-49E5-A5E7-36CA1698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D65-2996-4E38-9CC7-6149D05D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91B9-18F4-49DE-AB49-723184544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E390-F747-4F76-AADA-476A1401B54C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4440-9149-4C4F-82B6-B05639C0C74F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90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Historical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ussion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fer back to the list of sources from the previous activity. What types of sources do you think would be the most reliabl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’s wrong with this pictur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42920" y="2125800"/>
            <a:ext cx="74167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Historical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Lenin-1920"/>
          <p:cNvPicPr/>
          <p:nvPr/>
        </p:nvPicPr>
        <p:blipFill>
          <a:blip r:embed="rId1"/>
          <a:stretch/>
        </p:blipFill>
        <p:spPr>
          <a:xfrm>
            <a:off x="468360" y="1916280"/>
            <a:ext cx="4390920" cy="246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Lenin-1927"/>
          <p:cNvPicPr/>
          <p:nvPr/>
        </p:nvPicPr>
        <p:blipFill>
          <a:blip r:embed="rId2"/>
          <a:stretch/>
        </p:blipFill>
        <p:spPr>
          <a:xfrm>
            <a:off x="4932360" y="3357720"/>
            <a:ext cx="38894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ebsites can sometimes be unreliable as anyone can post information on the internet. There are things that you can check for however, to help determine if a website is reliabl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ite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that the author’s name and qualifications are liste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for a publication date. (The date that the website was last updated)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the suffix at the end of the web address. (.com, .edu, .org, .gov) This tells you whether it is a company, non-profit organisation, education related, or a government websi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– Checking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rganise yourself into pairs. One person is to be A and the other B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ch the Clip Care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35280" y="1830240"/>
            <a:ext cx="49687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’s need to tell their partner everything that they can remember about the cli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at was Emily’s record tim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ow many stopwatches were ther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ow many children were wearing medal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ow many pyramids did Emily mak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at colour pants was the lady in the white singlet wear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of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re are two types of sources used in history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mary 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ary Sourc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imary sources are any pieces of evidence that offer first hand account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at means that the source originated from the event in questio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ary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ary sources are sources that are created after the event usually from drawing on information from other sourc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2060640"/>
            <a:ext cx="1277640" cy="127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356000" y="465300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4360" y="206064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24000" y="2349360"/>
            <a:ext cx="1511280" cy="1656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2123640" y="2565360"/>
            <a:ext cx="1295640" cy="504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1052640"/>
            <a:ext cx="2232000" cy="863640"/>
          </a:xfrm>
          <a:prstGeom prst="wedgeRectCallout">
            <a:avLst>
              <a:gd name="adj1" fmla="val -52847"/>
              <a:gd name="adj2" fmla="val 70037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ill witnesses a car accid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/>
          <p:nvPr/>
        </p:nvCxnSpPr>
        <p:spPr>
          <a:xfrm>
            <a:off x="3635280" y="3429000"/>
            <a:ext cx="943920" cy="1170720"/>
          </a:xfrm>
          <a:prstGeom prst="straightConnector1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971640" y="4581360"/>
            <a:ext cx="2879640" cy="1657440"/>
          </a:xfrm>
          <a:prstGeom prst="wedgeRectCallout">
            <a:avLst>
              <a:gd name="adj1" fmla="val 48236"/>
              <a:gd name="adj2" fmla="val -96935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ill then tells Sue about what he saw. His conversation is a primary source because he is an eye wit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651640" y="3141720"/>
            <a:ext cx="1512720" cy="151128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4437000"/>
            <a:ext cx="2376360" cy="2160720"/>
          </a:xfrm>
          <a:prstGeom prst="wedgeRectCallout">
            <a:avLst>
              <a:gd name="adj1" fmla="val -37439"/>
              <a:gd name="adj2" fmla="val -79976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ue then tells Ben about the car accident. This is a second-hand account and therefore a secondar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28526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551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2852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7654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raw the following table into your notebook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2708280"/>
          <a:ext cx="7642440" cy="2208240"/>
        </p:xfrm>
        <a:graphic>
          <a:graphicData uri="http://schemas.openxmlformats.org/drawingml/2006/table">
            <a:tbl>
              <a:tblPr/>
              <a:tblGrid>
                <a:gridCol w="3821400"/>
                <a:gridCol w="382104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Primary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Secondary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 Cont’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980720"/>
            <a:ext cx="813564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ort the following sources into the appropriate columns in the tabl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42560" y="3212640"/>
            <a:ext cx="3457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hotograp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et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ext Boo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ebsi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yewitness accou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3213000"/>
            <a:ext cx="3529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i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peech Tran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cu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ing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en using sources it is important to make sure that they are reliabl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re are questions that we can ask to determine how reliable a source is and if it is biased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to 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o created the source and for what purpos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s everything that is reflected in the source accurat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s the evidence and information presented in the source supported by other source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04:47:14Z</dcterms:created>
  <dc:creator>scgiles</dc:creator>
  <dc:description/>
  <dc:language>en-US</dc:language>
  <cp:lastModifiedBy>scgiles</cp:lastModifiedBy>
  <dcterms:modified xsi:type="dcterms:W3CDTF">2007-07-10T22:14:35Z</dcterms:modified>
  <cp:revision>9</cp:revision>
  <dc:subject/>
  <dc:title>Using Historical Sources</dc:title>
</cp:coreProperties>
</file>